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DF4-871E-41C2-95E1-E4211642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CF58-D004-44C4-90A1-92F01F45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9B8-2658-47FF-835C-B52E2372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9D5-057D-4974-B303-C490CB8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818-8D77-49EE-9B3E-F4344710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D82-5289-4400-AA56-855E6686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16D2-D1FC-4636-9AE3-5603C46D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3285-0118-4AA0-96F6-15AED98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6CCF-1A56-4855-81B6-D3280A45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1CAE-CF7A-4627-9297-4B77D52D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71B-4A8E-4289-B745-9EA7F614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E113-3431-40B8-B225-75F14243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B54A-EAC2-4DE1-A21D-60DDD9A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EC5-641E-4CF3-8390-B706A9E3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6A5-451C-43F6-8AD8-20602BA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5741-03DB-4427-8151-FAA3B3E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6827-F2E9-4E24-AE84-5000DBE8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4155-4058-4DDE-AF3E-15C13047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F55-551B-4B9B-A0D8-7E65D1F2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27A-E8FF-4995-AE12-864E2AF3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353-5517-4EE1-9FDB-8167C74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333-FFFD-4BCE-A48A-32B7788F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900-5438-4FE6-8EAB-1862D0D6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911-4816-4A0E-92D4-190584E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279-D5BF-42EF-B1DC-E153A5B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369-D1CB-4CA3-8ECC-ADD2716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4E1-E7AD-4A9E-9926-FC68B8F876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26CB-5EBE-4312-B91E-78EC36424B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 llamo __________            Clase 801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La fecha es el 15 de octubre del 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Propósito # 15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, ¿Prefieres estudiar español o matemátic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ed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lar ingles en la clase de españ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é hor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erm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e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chas cl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deport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eg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ugar deportes en la clase de educación fís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ier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 tarea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0"/>
          <p:cNvSpPr/>
          <p:nvPr/>
        </p:nvSpPr>
        <p:spPr>
          <a:xfrm>
            <a:off x="380880" y="2286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52280" y="121932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gate the following STEM-CHANGING 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752480"/>
          <a:ext cx="9067680" cy="425952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                                         </a:t>
                      </a:r>
                      <a:r>
                        <a:rPr b="1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Qu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rer         </a:t>
                      </a:r>
                      <a:r>
                        <a:rPr b="1" lang="en-US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der      </a:t>
                      </a:r>
                      <a:r>
                        <a:rPr b="1" lang="en-US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ef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Line 31"/>
          <p:cNvSpPr/>
          <p:nvPr/>
        </p:nvSpPr>
        <p:spPr>
          <a:xfrm flipV="1">
            <a:off x="5410080" y="1752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5410080" y="2362320"/>
            <a:ext cx="0" cy="36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7"/>
          <p:cNvSpPr/>
          <p:nvPr/>
        </p:nvSpPr>
        <p:spPr>
          <a:xfrm flipV="1">
            <a:off x="3352680" y="1752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2"/>
          <p:cNvSpPr/>
          <p:nvPr/>
        </p:nvSpPr>
        <p:spPr>
          <a:xfrm flipV="1">
            <a:off x="7315200" y="1752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7315200" y="2362320"/>
            <a:ext cx="0" cy="36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3805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443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3032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pia y completa con la forma correcta del verbo 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jugadores/empezar a jug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dos equipos/ querer gan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los/preferir marcar muchos tan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nchez/querer meter un go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portero/querer parar el bal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equipo de Sanchez/no pe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pas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1143000"/>
          <a:ext cx="8763120" cy="4902120"/>
        </p:xfrm>
        <a:graphic>
          <a:graphicData uri="http://schemas.openxmlformats.org/drawingml/2006/table">
            <a:tbl>
              <a:tblPr/>
              <a:tblGrid>
                <a:gridCol w="2971800"/>
                <a:gridCol w="1989000"/>
                <a:gridCol w="1611360"/>
                <a:gridCol w="219096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Question    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Q      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er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49"/>
          <p:cNvSpPr/>
          <p:nvPr/>
        </p:nvSpPr>
        <p:spPr>
          <a:xfrm>
            <a:off x="609480" y="11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Verb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3352680" y="1219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Pro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3"/>
          <p:cNvSpPr/>
          <p:nvPr/>
        </p:nvSpPr>
        <p:spPr>
          <a:xfrm>
            <a:off x="5257800" y="1219320"/>
            <a:ext cx="14479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Infi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l ver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4"/>
          <p:cNvSpPr/>
          <p:nvPr/>
        </p:nvSpPr>
        <p:spPr>
          <a:xfrm>
            <a:off x="67057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Reg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1523880" y="2362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u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orm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7"/>
          <p:cNvSpPr/>
          <p:nvPr/>
        </p:nvSpPr>
        <p:spPr>
          <a:xfrm>
            <a:off x="1676520" y="17524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9"/>
          <p:cNvSpPr/>
          <p:nvPr/>
        </p:nvSpPr>
        <p:spPr>
          <a:xfrm>
            <a:off x="1523880" y="3581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en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0"/>
          <p:cNvSpPr/>
          <p:nvPr/>
        </p:nvSpPr>
        <p:spPr>
          <a:xfrm>
            <a:off x="16002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1"/>
          <p:cNvSpPr/>
          <p:nvPr/>
        </p:nvSpPr>
        <p:spPr>
          <a:xfrm>
            <a:off x="167652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2"/>
          <p:cNvSpPr/>
          <p:nvPr/>
        </p:nvSpPr>
        <p:spPr>
          <a:xfrm>
            <a:off x="1523880" y="54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quer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5"/>
          <p:cNvSpPr/>
          <p:nvPr/>
        </p:nvSpPr>
        <p:spPr>
          <a:xfrm>
            <a:off x="4038480" y="17524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6"/>
          <p:cNvSpPr/>
          <p:nvPr/>
        </p:nvSpPr>
        <p:spPr>
          <a:xfrm>
            <a:off x="3048120" y="2362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7"/>
          <p:cNvSpPr/>
          <p:nvPr/>
        </p:nvSpPr>
        <p:spPr>
          <a:xfrm>
            <a:off x="4038480" y="2362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8"/>
          <p:cNvSpPr/>
          <p:nvPr/>
        </p:nvSpPr>
        <p:spPr>
          <a:xfrm>
            <a:off x="3124080" y="3048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9"/>
          <p:cNvSpPr/>
          <p:nvPr/>
        </p:nvSpPr>
        <p:spPr>
          <a:xfrm>
            <a:off x="403848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1"/>
          <p:cNvSpPr/>
          <p:nvPr/>
        </p:nvSpPr>
        <p:spPr>
          <a:xfrm>
            <a:off x="3048120" y="3657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2"/>
          <p:cNvSpPr/>
          <p:nvPr/>
        </p:nvSpPr>
        <p:spPr>
          <a:xfrm>
            <a:off x="40384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3"/>
          <p:cNvSpPr/>
          <p:nvPr/>
        </p:nvSpPr>
        <p:spPr>
          <a:xfrm>
            <a:off x="304812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4"/>
          <p:cNvSpPr/>
          <p:nvPr/>
        </p:nvSpPr>
        <p:spPr>
          <a:xfrm>
            <a:off x="4038480" y="4191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5"/>
          <p:cNvSpPr/>
          <p:nvPr/>
        </p:nvSpPr>
        <p:spPr>
          <a:xfrm>
            <a:off x="3048120" y="4876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6"/>
          <p:cNvSpPr/>
          <p:nvPr/>
        </p:nvSpPr>
        <p:spPr>
          <a:xfrm>
            <a:off x="3124080" y="5486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7"/>
          <p:cNvSpPr/>
          <p:nvPr/>
        </p:nvSpPr>
        <p:spPr>
          <a:xfrm>
            <a:off x="40384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8"/>
          <p:cNvSpPr/>
          <p:nvPr/>
        </p:nvSpPr>
        <p:spPr>
          <a:xfrm>
            <a:off x="3962520" y="5486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9"/>
          <p:cNvSpPr/>
          <p:nvPr/>
        </p:nvSpPr>
        <p:spPr>
          <a:xfrm>
            <a:off x="52578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1"/>
          <p:cNvSpPr/>
          <p:nvPr/>
        </p:nvSpPr>
        <p:spPr>
          <a:xfrm>
            <a:off x="5181480" y="3002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2"/>
          <p:cNvSpPr/>
          <p:nvPr/>
        </p:nvSpPr>
        <p:spPr>
          <a:xfrm>
            <a:off x="5181480" y="3611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3"/>
          <p:cNvSpPr/>
          <p:nvPr/>
        </p:nvSpPr>
        <p:spPr>
          <a:xfrm>
            <a:off x="533412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4"/>
          <p:cNvSpPr/>
          <p:nvPr/>
        </p:nvSpPr>
        <p:spPr>
          <a:xfrm>
            <a:off x="5257800" y="4800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5"/>
          <p:cNvSpPr/>
          <p:nvPr/>
        </p:nvSpPr>
        <p:spPr>
          <a:xfrm>
            <a:off x="5257800" y="5440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Q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6"/>
          <p:cNvSpPr/>
          <p:nvPr/>
        </p:nvSpPr>
        <p:spPr>
          <a:xfrm>
            <a:off x="6934320" y="2438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7"/>
          <p:cNvSpPr/>
          <p:nvPr/>
        </p:nvSpPr>
        <p:spPr>
          <a:xfrm>
            <a:off x="6934320" y="3002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8"/>
          <p:cNvSpPr/>
          <p:nvPr/>
        </p:nvSpPr>
        <p:spPr>
          <a:xfrm>
            <a:off x="693432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9"/>
          <p:cNvSpPr/>
          <p:nvPr/>
        </p:nvSpPr>
        <p:spPr>
          <a:xfrm>
            <a:off x="6934320" y="4221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0"/>
          <p:cNvSpPr/>
          <p:nvPr/>
        </p:nvSpPr>
        <p:spPr>
          <a:xfrm>
            <a:off x="6781680" y="48308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*Crazy verb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1"/>
          <p:cNvSpPr/>
          <p:nvPr/>
        </p:nvSpPr>
        <p:spPr>
          <a:xfrm>
            <a:off x="701028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pia y responde en oraciones compl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Empiezan ustedes a jugar?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A qué hora empiezan ustedes a jugar?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a las t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ieren ustedes ganar el partido?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ieren ustedes marcar un tanto?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Pierden ustedes a veces o ganan siempre?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erder a ve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Adonde prefieren ustedes jugar?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en el par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area #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a la hoja F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Helen Zumaeta</cp:lastModifiedBy>
  <dcterms:modified xsi:type="dcterms:W3CDTF">2015-10-15T15:36:27Z</dcterms:modified>
  <cp:revision>21</cp:revision>
  <dc:subject/>
  <dc:title>Me llamo __________            Clase 7IM La fecha es el 14 de septiembre del 2011</dc:title>
</cp:coreProperties>
</file>